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B850-FBE3-4330-9DDF-0ED81D078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6B76-A57D-41F7-B4A6-5AA897DF60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73F6-62BA-422C-8EAE-7124BA6C86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41B-073D-4CFB-8AF1-71C671B537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828-EE9B-4ED7-8A4B-A36676A170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2215-AB47-431D-A0F7-CF4A401323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BEBF-65F4-4B9E-9101-491804AF5A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4D61-31C3-47B5-8F3B-971C3D7283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718-2F7E-41E8-90E0-04733E1E04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43B2-950D-464F-9C9E-26D272550E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241D-2D74-4A28-9710-B227F1887B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2AF-B7F5-45CB-AE67-51D21FE014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CF5-0E0D-4348-9200-C681BFDB93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08E-A290-4675-ADE5-B594DDD499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A2D9-810F-4038-9B37-DEE229D7B1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B23-B62A-441C-8E4D-8359447D66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F005-FD33-467A-BA3E-B37948B97B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040-282B-46EC-A271-AE2A3AA006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5FC-A802-4AF0-BBCE-DC2FEC76DB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5DD-D49E-4735-A4A2-A7A6710639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346-7D88-4C4B-A1E0-85D2A3F6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773-D211-4FCB-AF95-C7F39DC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FBA-22EF-44DE-8155-F9CA9CE8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C64-9CD9-45D1-AD69-89DE25F0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EAEE-26F1-4C07-91BB-9C943231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150-89A4-4BC5-9A5A-8C923ED2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A5F-A9E0-49A7-AFA9-6CB062D8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F9AA-6797-4A10-AA0F-F149C70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CF2-EED6-476C-8A24-5AE5427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3BF-6119-4C5A-80C0-F6FCCAD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14B6-AA1E-4892-A6FC-67AD72C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ACF-537E-4403-B9D5-F0694C12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2F7-944E-41CA-A6A3-12E126F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634-59B7-4D6E-8027-BB1D25B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48D-1E2A-4990-B7A4-EEDD66C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8C2B-7DB7-4F85-94F9-CFF2BF33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5F7A-E86F-446D-9D1F-660A1D15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E71F-4713-46AA-BFDD-E76B1550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1D04-0717-4215-8D87-7B6ACD71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4124-9574-4CE6-9C8D-C17359C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ECBF-80C4-432F-A1A5-91880698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09A1-037F-4BC6-AF40-EF1AA71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F55-F2AC-40F9-96D3-DD2C2FA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D685-4222-49FC-BC5C-FD44FF03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5BD4-3672-4DFB-8613-DD55B2C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BB99-4196-4AE2-B58D-3946EE5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6657-D576-4FAF-BBE0-FF4048F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C36E-DD61-4D21-8BF7-02DD8A2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641B-154C-44DD-B0E5-C98F901B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285A-94D9-401B-B18D-BAAF8615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2E62-B37B-4CE6-B269-4D94F770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1D0B-BEBD-480D-8EA7-DDEE8F2C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EC26-246B-4D33-92BC-5C9615D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701-39B3-4DC9-86B6-F63D3A3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3DD9-0E1A-49EE-845B-1835436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DB7C-569A-49EC-BDE1-0EA6A7E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AABC-197E-4217-B466-D8803C2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5952-2CD8-4719-B264-94CAEDFC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8E71-A4D7-4FBA-8E48-92D27B1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B07C-E0A6-426B-949F-A7F0CEB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70119-2871-44B3-A4B7-A59314B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CF1C-BABD-4F8A-B37A-2A656864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A508-06AA-47CC-821A-4D7AEC05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3E92-3E57-43E4-8DE0-8EE0D03F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B0C-C950-48A1-A465-10147A80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F99B-D546-4D37-B4B5-A39CCCF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293E-588A-47F2-9516-B1C8701C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A86E-9CB2-4704-967E-81F9132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907F-5EEE-4629-AA90-7ED6E019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9CD5-F19F-43F8-9433-64249677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4CB64-1A65-4A51-9226-4017AF9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924D-4A2A-4EA2-9503-45D6F3C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0CF5-2BD4-4873-B15E-7D42A0E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DC60-5B0E-4BFB-803A-01DAC64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67B8-9A7E-425D-9D2A-99216CFF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18E-5BAF-4A36-9A64-DA3AD5AF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0FD8B-7E31-465D-B355-DF4F1EF5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608A-56EF-44A4-AF5E-31E63FB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0C32-9E0D-47B0-9C7A-BE735A3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BFB1-B3EB-4B85-BB21-EA6AA957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36D24-5141-42CD-ACDA-9F46B74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5A48-3588-4CAE-8131-7BE49E5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8A6B1-97AD-47BE-81D3-6B0360F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4333-250A-4551-A464-13052F6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0FF4-B806-491F-8C6F-AAA99FC0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00CE-190B-49BE-9991-9CA4096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D2A-0601-4BCA-9C0F-30D3810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1FD5-D25E-428C-A0F6-87644C0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F91D-6107-4A93-9AA1-1C7FC81F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424E-4887-4542-BB3A-7A7D378F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C86-11F7-4084-BB1D-BA4F587B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DD3-8B24-4032-9DA9-74D877A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40C-E65F-4E3A-8E3F-78FAE18173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CD5-B581-47E8-A608-2F0D4D4072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397-A301-4B97-BDE1-9726FDC12E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2C4-4F52-4FDE-877F-B753F45EDE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25E-CE79-4D6C-810B-2479A960074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0C1B-C496-4172-B553-5A6B68E5E4E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960360" y="4976280"/>
            <a:ext cx="501660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и ученики 10«Б» класса: Коданёв Паша, Мишарина Наташа, Кирушев Саша, Панюкова Мар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ила учитель по математик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на Валерьевна Елфим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7440" y="2938320"/>
            <a:ext cx="8143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чём сходство и различие тригонометрических функций?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71600" y="2771640"/>
            <a:ext cx="45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ны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44600" y="43308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87200" y="115920"/>
            <a:ext cx="1814760" cy="1657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 rot="21225600">
            <a:off x="127080" y="1009440"/>
            <a:ext cx="88614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ебный проект на тему: Ты, я и тригонометр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429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е синуса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 косинусу того же числа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анген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е косинуса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 синусу того же числа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танген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214720" y="3500280"/>
          <a:ext cx="4619520" cy="428760"/>
        </p:xfrm>
        <a:graphic>
          <a:graphicData uri="http://schemas.openxmlformats.org/drawingml/2006/table">
            <a:tbl>
              <a:tblPr/>
              <a:tblGrid>
                <a:gridCol w="4619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0,5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,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286000" y="4857840"/>
          <a:ext cx="4572000" cy="428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,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13880" y="2071800"/>
            <a:ext cx="7858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допустимого значени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допустимого значения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571920" y="2857680"/>
          <a:ext cx="2071800" cy="63972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571920" y="4143240"/>
          <a:ext cx="2071800" cy="71460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π) = tg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π) = c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000240" y="5214960"/>
          <a:ext cx="3476880" cy="669960"/>
        </p:xfrm>
        <a:graphic>
          <a:graphicData uri="http://schemas.openxmlformats.org/drawingml/2006/table">
            <a:tbl>
              <a:tblPr/>
              <a:tblGrid>
                <a:gridCol w="347688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) = 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g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) = ctg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є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57120" y="1571400"/>
            <a:ext cx="84297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ригонометрические функции числового аргумент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bfbfbf"/>
                </a:solidFill>
                <a:uFillTx/>
                <a:latin typeface="Arial"/>
              </a:rPr>
              <a:t>Основные соотношения, связывающие значения различных тригонометрических функ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86000" y="4143240"/>
          <a:ext cx="4976640" cy="1260720"/>
        </p:xfrm>
        <a:graphic>
          <a:graphicData uri="http://schemas.openxmlformats.org/drawingml/2006/table">
            <a:tbl>
              <a:tblPr/>
              <a:tblGrid>
                <a:gridCol w="497664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* ctg t = 1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πk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+ tg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≠ 0,5π + πk, k є Z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+ ctg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≠ πk, k є 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13880" y="1928880"/>
            <a:ext cx="7853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нию, служащую графиком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идо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Chart 1" descr=""/>
          <p:cNvPicPr/>
          <p:nvPr/>
        </p:nvPicPr>
        <p:blipFill>
          <a:blip r:embed="rId2"/>
          <a:stretch/>
        </p:blipFill>
        <p:spPr>
          <a:xfrm>
            <a:off x="633240" y="2852640"/>
            <a:ext cx="8517240" cy="3603600"/>
          </a:xfrm>
          <a:prstGeom prst="rect">
            <a:avLst/>
          </a:prstGeom>
          <a:ln w="0">
            <a:noFill/>
          </a:ln>
        </p:spPr>
      </p:pic>
      <p:pic>
        <p:nvPicPr>
          <p:cNvPr id="346" name="Chart 1" descr=""/>
          <p:cNvPicPr/>
          <p:nvPr/>
        </p:nvPicPr>
        <p:blipFill>
          <a:blip r:embed="rId3"/>
          <a:stretch/>
        </p:blipFill>
        <p:spPr>
          <a:xfrm>
            <a:off x="615960" y="2828880"/>
            <a:ext cx="8686800" cy="35416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7988400" y="4673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2971800" y="46483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6375240" y="46353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1359000" y="464832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5308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2920" y="185724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че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быва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 и возрастает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ограничена и сверху и снизу (-1 ≤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≤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-1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б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риодическая, ее основной период равен 2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[-1;1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9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выпукла вверх на отрезк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кла вниз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2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713880" y="1928880"/>
            <a:ext cx="7853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инию, служащую графиком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идой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синусоидой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Chart 1" descr=""/>
          <p:cNvPicPr/>
          <p:nvPr/>
        </p:nvPicPr>
        <p:blipFill>
          <a:blip r:embed="rId2"/>
          <a:stretch/>
        </p:blipFill>
        <p:spPr>
          <a:xfrm>
            <a:off x="633240" y="2852640"/>
            <a:ext cx="8517240" cy="3603600"/>
          </a:xfrm>
          <a:prstGeom prst="rect">
            <a:avLst/>
          </a:prstGeom>
          <a:ln w="0">
            <a:noFill/>
          </a:ln>
        </p:spPr>
      </p:pic>
      <p:pic>
        <p:nvPicPr>
          <p:cNvPr id="356" name="Chart 1" descr=""/>
          <p:cNvPicPr/>
          <p:nvPr/>
        </p:nvPicPr>
        <p:blipFill>
          <a:blip r:embed="rId3"/>
          <a:stretch/>
        </p:blipFill>
        <p:spPr>
          <a:xfrm>
            <a:off x="152280" y="2419200"/>
            <a:ext cx="9156960" cy="44452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3949560" y="46227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1968480" y="459756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7188120" y="4610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5359320" y="46101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1066680" y="-141120"/>
            <a:ext cx="8278920" cy="2530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920" y="1916280"/>
            <a:ext cx="87868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быва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 и возрастает на отрезке [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ограничена и сверху и снизу (-1 ≤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≤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-1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наиб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риодическая, ее основной период равен 2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= [-1; 1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9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выпукла вверх 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0,5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; 0,5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кла вниз на отрезке 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,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hart 1" descr=""/>
          <p:cNvPicPr/>
          <p:nvPr/>
        </p:nvPicPr>
        <p:blipFill>
          <a:blip r:embed="rId1"/>
          <a:stretch/>
        </p:blipFill>
        <p:spPr>
          <a:xfrm>
            <a:off x="380880" y="2355840"/>
            <a:ext cx="8508960" cy="415764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1190880" y="261360"/>
            <a:ext cx="8565840" cy="9016560"/>
            <a:chOff x="1190880" y="261360"/>
            <a:chExt cx="8565840" cy="9016560"/>
          </a:xfrm>
        </p:grpSpPr>
        <p:sp>
          <p:nvSpPr>
            <p:cNvPr id="365" name="TextBox 9"/>
            <p:cNvSpPr/>
            <p:nvPr/>
          </p:nvSpPr>
          <p:spPr>
            <a:xfrm>
              <a:off x="1484280" y="451656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Box 11"/>
            <p:cNvSpPr/>
            <p:nvPr/>
          </p:nvSpPr>
          <p:spPr>
            <a:xfrm>
              <a:off x="2587680" y="4514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Box 12"/>
            <p:cNvSpPr/>
            <p:nvPr/>
          </p:nvSpPr>
          <p:spPr>
            <a:xfrm>
              <a:off x="6413400" y="453852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Box 13"/>
            <p:cNvSpPr/>
            <p:nvPr/>
          </p:nvSpPr>
          <p:spPr>
            <a:xfrm>
              <a:off x="7134120" y="4568760"/>
              <a:ext cx="78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23200" y="4354560"/>
              <a:ext cx="14580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18080" y="434988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00360" y="4346640"/>
              <a:ext cx="14580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65520" y="4349880"/>
              <a:ext cx="14580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64080" y="4354560"/>
              <a:ext cx="14580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6720" y="435600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Box 9"/>
            <p:cNvSpPr/>
            <p:nvPr/>
          </p:nvSpPr>
          <p:spPr>
            <a:xfrm>
              <a:off x="3390840" y="456732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9"/>
            <p:cNvSpPr/>
            <p:nvPr/>
          </p:nvSpPr>
          <p:spPr>
            <a:xfrm>
              <a:off x="5302080" y="4546440"/>
              <a:ext cx="8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2600" y="295272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6800" y="299736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0200" y="3016080"/>
              <a:ext cx="0" cy="2756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1240" y="2955960"/>
              <a:ext cx="0" cy="275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21003000">
              <a:off x="3364200" y="423720"/>
              <a:ext cx="2147040" cy="398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9315000">
              <a:off x="385344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9315000">
              <a:off x="574740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21003000">
              <a:off x="5270760" y="416880"/>
              <a:ext cx="2147040" cy="398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1003000">
              <a:off x="1519560" y="426240"/>
              <a:ext cx="2147040" cy="398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167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16727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9315000">
              <a:off x="2027880" y="4249080"/>
              <a:ext cx="319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875200" y="29638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  <a:ea typeface="Arial"/>
              </a:rPr>
              <a:t>Y=tg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9280" y="3011400"/>
            <a:ext cx="876636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/2;+П/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озрастает на отрез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[-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неогранич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ибольшего и наименьшего значения функции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ериодическая, ее период равен 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чё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9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ть вертикальные асимп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723960" y="0"/>
            <a:ext cx="8278920" cy="16416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025720" y="1584360"/>
            <a:ext cx="473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йства функции y=tg x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328680" y="-383760"/>
            <a:ext cx="9892440" cy="9709560"/>
            <a:chOff x="328680" y="-383760"/>
            <a:chExt cx="9892440" cy="9709560"/>
          </a:xfrm>
        </p:grpSpPr>
        <p:pic>
          <p:nvPicPr>
            <p:cNvPr id="393" name="Chart 1" descr=""/>
            <p:cNvPicPr/>
            <p:nvPr/>
          </p:nvPicPr>
          <p:blipFill>
            <a:blip r:embed="rId1"/>
            <a:stretch/>
          </p:blipFill>
          <p:spPr>
            <a:xfrm>
              <a:off x="328680" y="2338560"/>
              <a:ext cx="850896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346720" y="433692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46440" y="434664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7360" y="434808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55000" y="4349880"/>
              <a:ext cx="146160" cy="13788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0120" y="433224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46720" y="4359240"/>
              <a:ext cx="146160" cy="138240"/>
            </a:xfrm>
            <a:prstGeom prst="donut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2352200">
              <a:off x="4872960" y="-1260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4436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13320" y="2981160"/>
              <a:ext cx="1296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15480" y="2975040"/>
              <a:ext cx="1260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36800" y="3046320"/>
              <a:ext cx="12600" cy="279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2352200">
              <a:off x="6612840" y="-468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8424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13840" y="4389480"/>
              <a:ext cx="1694880" cy="493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1" y="43"/>
                  </a:moveTo>
                  <a:arcTo wR="10800" hR="10800" stAng="-5705634" swAng="4360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1" y="43"/>
                  </a:moveTo>
                  <a:arcTo wR="10800" hR="10800" stAng="-5705634" swAng="4360670"/>
                </a:path>
              </a:pathLst>
            </a:cu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2352200">
              <a:off x="3152160" y="-12600"/>
              <a:ext cx="2749680" cy="456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6" y="98"/>
                  </a:moveTo>
                  <a:arcTo wR="10800" hR="10800" stAng="-5864170" swAng="3595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6" y="98"/>
                  </a:moveTo>
                  <a:arcTo wR="10800" hR="10800" stAng="-5864170" swAng="359562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40080" y="4465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-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14880" y="4465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8600" y="44766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39000" y="44388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37480" y="44226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П/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24960" y="441324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3560" y="286848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Y=ctg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865080" y="142920"/>
            <a:ext cx="8278920" cy="16416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74320" y="458640"/>
            <a:ext cx="8607240" cy="625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Impact"/>
              </a:rPr>
              <a:t>Цель:</a:t>
            </a:r>
            <a:r>
              <a:rPr b="0" lang="en-US" sz="3200" spc="-1" strike="noStrike">
                <a:solidFill>
                  <a:srgbClr val="00ff00"/>
                </a:solidFill>
                <a:latin typeface="Impac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систематизировать знания о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свойствах и графиках тригонометриче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функ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Impact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звить творческую актив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сширить кругозор учащих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- рассказать о сходствах и различиях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графиках и свойствах тригонометриче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функ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704880" y="135000"/>
            <a:ext cx="8278920" cy="164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025720" y="1584360"/>
            <a:ext cx="473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йства функции y=ctg x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"/>
          <p:cNvSpPr/>
          <p:nvPr/>
        </p:nvSpPr>
        <p:spPr>
          <a:xfrm>
            <a:off x="385920" y="3197160"/>
            <a:ext cx="844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+П/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=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;+∞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3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ct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убывает на отрез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π/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4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неогранич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5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ибольшего и наименьшего значения функции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6.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ериодическая, ее период равен 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7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непрерыв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8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tg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чётная фун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9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ть вертикальные асимп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6840" y="331560"/>
            <a:ext cx="84675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Impact"/>
              </a:rPr>
              <a:t>Вывод:</a:t>
            </a:r>
            <a:r>
              <a:rPr b="0" lang="en-US" sz="3000" spc="-1" strike="noStrike">
                <a:solidFill>
                  <a:srgbClr val="ffffff"/>
                </a:solidFill>
                <a:latin typeface="Impact"/>
              </a:rPr>
              <a:t>  над проблемным вопросом «В чём сходство и различие тригонометрических функций» работала группа учеников 10 «Б» класса. Нам предстояло подробно рассказать о свойствах и графиках тригонометрических функций, для того что бы узнать чем же они друг от друга отличаются. Мы постарались очень чётко изобразить графики функций, по которым видны все отличия и сходства и подобрать основные свойства. Мы считаем, что с заданием справились и эта презентация поможет нам и нашим одноклассникам разобраться в том, в чём ещё не разобралис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36680" y="135000"/>
            <a:ext cx="8278560" cy="1641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45880" y="2804760"/>
            <a:ext cx="8699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Тригонометрические функци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неалгебраические функции, устанавливающие зависимость между сторонами и углами треугольника. Тригонометрические функции угла α определяются при помощи числовой окружности, а также из прямоугольного треугольника (для острых угл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56760" y="78588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Числовая окружно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единичная окружность с установленным соответствием (между действительными числами и точками окруж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Chart 1" descr=""/>
          <p:cNvPicPr/>
          <p:nvPr/>
        </p:nvPicPr>
        <p:blipFill>
          <a:blip r:embed="rId2"/>
          <a:stretch/>
        </p:blipFill>
        <p:spPr>
          <a:xfrm>
            <a:off x="2084400" y="3151080"/>
            <a:ext cx="6583320" cy="351180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4"/>
          <p:cNvSpPr/>
          <p:nvPr/>
        </p:nvSpPr>
        <p:spPr>
          <a:xfrm>
            <a:off x="3819600" y="3311640"/>
            <a:ext cx="3143160" cy="321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152280" y="5892840"/>
            <a:ext cx="4318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2f2f2"/>
                </a:solidFill>
                <a:uFillTx/>
                <a:latin typeface="Arial"/>
              </a:rPr>
              <a:t>Уравнение числовой окружности: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y</a:t>
            </a:r>
            <a:r>
              <a:rPr b="0" lang="ru-RU" sz="2800" spc="-1" strike="noStrike" baseline="30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9680" y="200016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е по числовой окружности происходи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роти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асовой стре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Chart 1" descr=""/>
          <p:cNvPicPr/>
          <p:nvPr/>
        </p:nvPicPr>
        <p:blipFill>
          <a:blip r:embed="rId2"/>
          <a:stretch/>
        </p:blipFill>
        <p:spPr>
          <a:xfrm>
            <a:off x="993600" y="3139920"/>
            <a:ext cx="6583680" cy="351000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9"/>
          <p:cNvSpPr/>
          <p:nvPr/>
        </p:nvSpPr>
        <p:spPr>
          <a:xfrm>
            <a:off x="2714760" y="32860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5786280" y="4824360"/>
            <a:ext cx="1429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Овал 11"/>
          <p:cNvSpPr/>
          <p:nvPr/>
        </p:nvSpPr>
        <p:spPr>
          <a:xfrm>
            <a:off x="4254480" y="321300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Овал 12"/>
          <p:cNvSpPr/>
          <p:nvPr/>
        </p:nvSpPr>
        <p:spPr>
          <a:xfrm>
            <a:off x="2641680" y="4826160"/>
            <a:ext cx="164880" cy="1396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Овал 13"/>
          <p:cNvSpPr/>
          <p:nvPr/>
        </p:nvSpPr>
        <p:spPr>
          <a:xfrm>
            <a:off x="4203720" y="6451560"/>
            <a:ext cx="165240" cy="152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58420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4064040" y="281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2362320" y="4470480"/>
            <a:ext cx="3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3962520" y="64882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5842080" y="48387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4343400" y="383544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3086280" y="3835440"/>
            <a:ext cx="11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3073320" y="527040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4381560" y="525780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1759 -0.00191 -0.03518 -0.00417 -0.05185 C -0.00642 -0.06852 -0.00903 -0.08518 -0.01389 -0.1 C -0.01875 -0.11481 -0.02622 -0.12847 -0.03333 -0.14074 C -0.04045 -0.15301 -0.04618 -0.16227 -0.05695 -0.17407 C -0.06771 -0.18588 -0.08351 -0.20115 -0.09861 -0.21111 C -0.11372 -0.22106 -0.13559 -0.2294 -0.14722 -0.23333 C -0.15886 -0.23727 -0.16476 -0.23518 -0.16806 -0.23518 E">
                                      <p:cBhvr>
                                        <p:cTn id="7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805 0.00185 -0.03611 0.00393 -0.05277 0.01111 C -0.06944 0.01828 -0.08611 0.0294 -0.1 0.04259 C -0.11389 0.05578 -0.12691 0.07569 -0.13611 0.09074 C -0.14531 0.10578 -0.15052 0.12014 -0.15555 0.13333 C -0.16059 0.14653 -0.16371 0.15347 -0.16666 0.17037 C -0.16961 0.18727 -0.17239 0.2243 -0.17361 0.23518 E">
                                      <p:cBhvr>
                                        <p:cTn id="8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37 C -0.00139 0.01667 -0.00122 0.03704 0.00416 0.05926 C 0.00955 0.08148 0.01875 0.10741 0.03055 0.12963 C 0.04236 0.15185 0.05538 0.17593 0.075 0.19259 C 0.09461 0.20926 0.13211 0.22315 0.14861 0.22963 C 0.1651 0.23611 0.16944 0.23125 0.17361 0.23148 E">
                                      <p:cBhvr>
                                        <p:cTn id="94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75 -0.0037 0.0375 -0.00717 0.05417 -0.01481 C 0.07084 -0.02245 0.08664 -0.0331 0.1 -0.04629 C 0.11337 -0.05949 0.125 -0.07754 0.13473 -0.09444 C 0.14445 -0.11134 0.15261 -0.13055 0.15834 -0.14815 C 0.16407 -0.16574 0.16737 -0.18518 0.16945 -0.2 C 0.17153 -0.21481 0.17119 -0.22592 0.17084 -0.23704 E">
                                      <p:cBhvr>
                                        <p:cTn id="10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pic>
        <p:nvPicPr>
          <p:cNvPr id="293" name="Chart 1" descr=""/>
          <p:cNvPicPr/>
          <p:nvPr/>
        </p:nvPicPr>
        <p:blipFill>
          <a:blip r:embed="rId2"/>
          <a:stretch/>
        </p:blipFill>
        <p:spPr>
          <a:xfrm>
            <a:off x="993600" y="3139920"/>
            <a:ext cx="6583680" cy="3510000"/>
          </a:xfrm>
          <a:prstGeom prst="rect">
            <a:avLst/>
          </a:prstGeom>
          <a:ln w="0">
            <a:noFill/>
          </a:ln>
        </p:spPr>
      </p:pic>
      <p:sp>
        <p:nvSpPr>
          <p:cNvPr id="294" name="Овал 4"/>
          <p:cNvSpPr/>
          <p:nvPr/>
        </p:nvSpPr>
        <p:spPr>
          <a:xfrm>
            <a:off x="2714760" y="32860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одзаголовок 2"/>
          <p:cNvSpPr/>
          <p:nvPr/>
        </p:nvSpPr>
        <p:spPr>
          <a:xfrm>
            <a:off x="322200" y="1797120"/>
            <a:ext cx="8643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движение по числовой окружности происходи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асовой стрелке, то значения получаются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отрицате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7"/>
          <p:cNvSpPr/>
          <p:nvPr/>
        </p:nvSpPr>
        <p:spPr>
          <a:xfrm>
            <a:off x="5791320" y="4838760"/>
            <a:ext cx="12672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Овал 8"/>
          <p:cNvSpPr/>
          <p:nvPr/>
        </p:nvSpPr>
        <p:spPr>
          <a:xfrm>
            <a:off x="4254480" y="645156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Овал 9"/>
          <p:cNvSpPr/>
          <p:nvPr/>
        </p:nvSpPr>
        <p:spPr>
          <a:xfrm>
            <a:off x="2679840" y="4826160"/>
            <a:ext cx="126720" cy="126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Овал 10"/>
          <p:cNvSpPr/>
          <p:nvPr/>
        </p:nvSpPr>
        <p:spPr>
          <a:xfrm>
            <a:off x="4241880" y="3213000"/>
            <a:ext cx="127080" cy="127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584208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4013280" y="648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336760" y="45594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3962520" y="288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5829480" y="4800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1852 -0.00156 0.03704 -0.00417 0.05371 C -0.00677 0.07037 -0.01025 0.08496 -0.01528 0.1 C -0.02031 0.11505 -0.02518 0.12894 -0.03472 0.14445 C -0.04427 0.15996 -0.05851 0.17963 -0.07222 0.1926 C -0.08594 0.20556 -0.10052 0.21482 -0.11667 0.22223 C -0.13281 0.22963 -0.16059 0.23449 -0.16945 0.23704 E">
                                      <p:cBhvr>
                                        <p:cTn id="13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53 -0.00069 -0.03489 -0.00116 -0.05416 -0.01111 C -0.07344 -0.02106 -0.09844 -0.03981 -0.11528 -0.05926 C -0.13212 -0.0787 -0.14566 -0.10254 -0.15555 -0.12778 C -0.16545 -0.15301 -0.1717 -0.19259 -0.175 -0.21111 C -0.1783 -0.22963 -0.17673 -0.23426 -0.175 -0.23889 E">
                                      <p:cBhvr>
                                        <p:cTn id="14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69 -0.02176 -0.00121 -0.04352 0.00556 -0.06852 C 0.01233 -0.09352 0.0257 -0.12708 0.04028 -0.15 C 0.05486 -0.17292 0.07656 -0.19259 0.09306 -0.20555 C 0.10955 -0.21852 0.12552 -0.22315 0.13889 -0.22778 C 0.15226 -0.23241 0.16285 -0.23287 0.17361 -0.23333 E">
                                      <p:cBhvr>
                                        <p:cTn id="15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63 0.00093 0.03143 0.00208 0.04584 0.00741 C 0.06025 0.01273 0.07344 0.02153 0.08612 0.03148 C 0.09879 0.04144 0.11164 0.05162 0.12223 0.06667 C 0.13282 0.08171 0.14254 0.10162 0.15 0.12222 C 0.15747 0.14283 0.16372 0.17222 0.16667 0.19074 C 0.16962 0.20926 0.16875 0.2213 0.16806 0.23333 E">
                                      <p:cBhvr>
                                        <p:cTn id="16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39400" y="1587600"/>
            <a:ext cx="864396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Если точка М числовой окружности соответствует числу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, то она соответствует и числу вида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+ 2πk, где параметр k – любое целое число (k</a:t>
            </a:r>
            <a:r>
              <a:rPr b="0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9e010"/>
                </a:solidFill>
                <a:latin typeface="Arial"/>
              </a:rPr>
              <a:t>є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9e010"/>
                </a:solidFill>
                <a:latin typeface="Arial"/>
              </a:rPr>
              <a:t>Z</a:t>
            </a:r>
            <a:r>
              <a:rPr b="1" i="1" lang="ru-RU" sz="2000" spc="-1" strike="noStrike">
                <a:solidFill>
                  <a:srgbClr val="69e01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Chart 1" descr=""/>
          <p:cNvPicPr/>
          <p:nvPr/>
        </p:nvPicPr>
        <p:blipFill>
          <a:blip r:embed="rId2"/>
          <a:stretch/>
        </p:blipFill>
        <p:spPr>
          <a:xfrm>
            <a:off x="1494000" y="3425760"/>
            <a:ext cx="6229080" cy="3224160"/>
          </a:xfrm>
          <a:prstGeom prst="rect">
            <a:avLst/>
          </a:prstGeom>
          <a:ln w="0">
            <a:noFill/>
          </a:ln>
        </p:spPr>
      </p:pic>
      <p:sp>
        <p:nvSpPr>
          <p:cNvPr id="308" name="Овал 4"/>
          <p:cNvSpPr/>
          <p:nvPr/>
        </p:nvSpPr>
        <p:spPr>
          <a:xfrm>
            <a:off x="3143160" y="3571920"/>
            <a:ext cx="2928960" cy="29289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5"/>
          <p:cNvSpPr/>
          <p:nvPr/>
        </p:nvSpPr>
        <p:spPr>
          <a:xfrm>
            <a:off x="5572080" y="3929040"/>
            <a:ext cx="1429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Овал 7"/>
          <p:cNvSpPr/>
          <p:nvPr/>
        </p:nvSpPr>
        <p:spPr>
          <a:xfrm>
            <a:off x="5572080" y="3929040"/>
            <a:ext cx="142920" cy="142920"/>
          </a:xfrm>
          <a:prstGeom prst="ellipse">
            <a:avLst/>
          </a:prstGeom>
          <a:solidFill>
            <a:srgbClr val="69e01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5643720" y="37148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5664240" y="37209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(t + 2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185 C -0.00764 -0.01389 -0.01233 -0.02129 -0.01945 -0.02777 C -0.02656 -0.03426 -0.03559 -0.03634 -0.04306 -0.04074 C -0.05052 -0.04514 -0.05677 -0.05069 -0.06389 -0.0537 C -0.07101 -0.05671 -0.07847 -0.05764 -0.08611 -0.05926 C -0.09375 -0.06088 -0.10191 -0.06227 -0.10972 -0.06296 C -0.11754 -0.06365 -0.12084 -0.06643 -0.13334 -0.06296 C -0.14584 -0.05949 -0.17136 -0.05069 -0.18472 -0.04259 C -0.19809 -0.03449 -0.20486 -0.02523 -0.21389 -0.01481 C -0.22292 -0.00439 -0.23177 0.00834 -0.23889 0.02037 C -0.24601 0.03241 -0.25209 0.04422 -0.25695 0.05741 C -0.26181 0.07061 -0.26545 0.08264 -0.26806 0.1 C -0.27066 0.11736 -0.27309 0.13959 -0.27222 0.16111 C -0.27136 0.18264 -0.26754 0.21088 -0.2625 0.22963 C -0.25747 0.24838 -0.24983 0.25996 -0.24167 0.27408 C -0.23351 0.2882 -0.22656 0.30186 -0.21389 0.31482 C -0.20122 0.32778 -0.18212 0.34352 -0.16528 0.35186 C -0.14844 0.36019 -0.13212 0.36574 -0.1125 0.36482 C -0.09288 0.36389 -0.06736 0.35834 -0.04722 0.3463 C -0.02709 0.33426 -0.00643 0.31412 0.00833 0.2926 C 0.02309 0.27107 0.03489 0.24167 0.04166 0.21667 C 0.04844 0.19167 0.04913 0.16598 0.04861 0.1426 C 0.04809 0.11922 0.04253 0.09236 0.03889 0.07593 C 0.03524 0.05949 0.03246 0.05672 0.02639 0.04445 C 0.02031 0.03218 0.00764 0.01019 2.5E-006 -0.00185 Z">
                                      <p:cBhvr>
                                        <p:cTn id="200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50560" y="1752480"/>
            <a:ext cx="87152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точка М числовой окружности соответствуе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лу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о абсциссу точки М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синусом числа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обозначают </a:t>
            </a:r>
            <a:r>
              <a:rPr b="0" lang="en-US" sz="2000" spc="-1" strike="noStrike">
                <a:solidFill>
                  <a:srgbClr val="69e010"/>
                </a:solidFill>
                <a:latin typeface="Arial"/>
              </a:rPr>
              <a:t>cos</a:t>
            </a:r>
            <a:r>
              <a:rPr b="0" lang="ru-RU" sz="2000" spc="-1" strike="noStrike">
                <a:solidFill>
                  <a:srgbClr val="69e01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9e01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ординату точки М наз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усом числа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бозначают </a:t>
            </a:r>
            <a:r>
              <a:rPr b="0" lang="en-US" sz="2000" spc="-1" strike="noStrike">
                <a:solidFill>
                  <a:srgbClr val="69e01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69e010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5840" y="500040"/>
          <a:ext cx="2786040" cy="100008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(t) = M(x; y)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cos t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= sin 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pic>
        <p:nvPicPr>
          <p:cNvPr id="316" name="Chart 1" descr=""/>
          <p:cNvPicPr/>
          <p:nvPr/>
        </p:nvPicPr>
        <p:blipFill>
          <a:blip r:embed="rId2"/>
          <a:stretch/>
        </p:blipFill>
        <p:spPr>
          <a:xfrm>
            <a:off x="1414440" y="3151080"/>
            <a:ext cx="6583320" cy="3511800"/>
          </a:xfrm>
          <a:prstGeom prst="rect">
            <a:avLst/>
          </a:prstGeom>
          <a:ln w="0">
            <a:noFill/>
          </a:ln>
        </p:spPr>
      </p:pic>
      <p:sp>
        <p:nvSpPr>
          <p:cNvPr id="317" name="Овал 5"/>
          <p:cNvSpPr/>
          <p:nvPr/>
        </p:nvSpPr>
        <p:spPr>
          <a:xfrm>
            <a:off x="3146400" y="3298680"/>
            <a:ext cx="3143160" cy="3214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3645000" y="3657600"/>
            <a:ext cx="127080" cy="101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263760" y="33148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2"/>
          <p:cNvSpPr/>
          <p:nvPr/>
        </p:nvSpPr>
        <p:spPr>
          <a:xfrm flipH="1">
            <a:off x="3706560" y="3760920"/>
            <a:ext cx="3240" cy="1143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28"/>
          <p:cNvSpPr/>
          <p:nvPr/>
        </p:nvSpPr>
        <p:spPr>
          <a:xfrm>
            <a:off x="3772080" y="3708360"/>
            <a:ext cx="952200" cy="1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2"/>
          <p:cNvSpPr/>
          <p:nvPr/>
        </p:nvSpPr>
        <p:spPr>
          <a:xfrm>
            <a:off x="3708360" y="4902120"/>
            <a:ext cx="1015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36"/>
          <p:cNvSpPr/>
          <p:nvPr/>
        </p:nvSpPr>
        <p:spPr>
          <a:xfrm flipH="1">
            <a:off x="4722480" y="3697200"/>
            <a:ext cx="3240" cy="120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3848040" y="483876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</a:rPr>
              <a:t>cos </a:t>
            </a:r>
            <a:r>
              <a:rPr b="0" i="1" lang="en-US" sz="1800" spc="-1" strike="noStrike">
                <a:solidFill>
                  <a:srgbClr val="69e01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4699080" y="40514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e010"/>
                </a:solidFill>
                <a:latin typeface="Arial"/>
              </a:rPr>
              <a:t>sin </a:t>
            </a:r>
            <a:r>
              <a:rPr b="0" i="1" lang="en-US" sz="1800" spc="-1" strike="noStrike">
                <a:solidFill>
                  <a:srgbClr val="69e01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wheel spokes="1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066680" y="-122400"/>
            <a:ext cx="8278920" cy="2109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5480" y="185724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2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войство </a:t>
            </a:r>
            <a:r>
              <a:rPr b="1" i="1" lang="en-US" sz="2000" spc="-1" strike="noStrike" u="sng">
                <a:solidFill>
                  <a:srgbClr val="262626"/>
                </a:solidFill>
                <a:uFillTx/>
                <a:latin typeface="Arial"/>
              </a:rPr>
              <a:t>3</a:t>
            </a:r>
            <a:r>
              <a:rPr b="1" i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любого числ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раведливы равен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429000" y="2428920"/>
          <a:ext cx="2428920" cy="6397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-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3429000" y="3643200"/>
          <a:ext cx="2428920" cy="6397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πk) = sin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πk) = 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429000" y="5143680"/>
          <a:ext cx="2428920" cy="64260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-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</a:tbl>
          </a:graphicData>
        </a:graphic>
      </p:graphicFrame>
    </p:spTree>
  </p:cSld>
  <p:transition advTm="3000">
    <p:wheel spokes="1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9:34:00Z</dcterms:created>
  <dc:creator>HP</dc:creator>
  <dc:description/>
  <dc:language>en-US</dc:language>
  <cp:lastModifiedBy>Мамонтовы</cp:lastModifiedBy>
  <dcterms:modified xsi:type="dcterms:W3CDTF">2011-05-08T11:26:08Z</dcterms:modified>
  <cp:revision>138</cp:revision>
  <dc:subject/>
  <dc:title>Определение числовой функции и способы ее задания</dc:title>
</cp:coreProperties>
</file>